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3.gif" ContentType="image/gif"/>
  <Override PartName="/ppt/media/image6.png" ContentType="image/png"/>
  <Override PartName="/ppt/media/image10.wmf" ContentType="image/x-wm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62A-FCBD-44B0-B2D5-EAC0C8E5D7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A2C-DE65-4250-8B1D-3104BAAE5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881-2752-43A6-A891-8FBC02122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67E-06B4-41BE-A638-62A61377F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734B-FFC6-4988-9A77-E5B5102F7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CB4-B6CF-431E-876C-17E999148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8FB8-2069-403E-ACB9-75B4F3BEB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DEE-FC46-429B-B927-304E0458D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3D81-8A3A-421B-A16C-A082FEAFE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0F22-E229-4048-BBE3-E9F47FDC1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FFE5-38A3-4B97-ACE3-434785DE9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3916-FBE1-49B9-875B-DB44C9129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10A-860F-4AD3-8AA0-7F15CAA32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917F-3B91-43A5-8705-B645F4CF6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CC4C-6505-47DF-80B5-53C8318AA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DF2-B538-4643-A896-E3387F858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BEF-0A53-4B92-BBAD-C8A67A202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3B3-0325-4500-99AF-500AA819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C02-AF43-42F2-9EE3-6655287F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1E1-F6C0-4C12-9310-4FAD0EC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8E5-20CF-4E78-99CC-E700B68A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1CAF-B300-4C3A-BC5A-8CD5759B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824E-F7A8-4ECE-B327-39381937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A83B-DEFA-4C84-9DC3-1ECF232D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C9E-7629-4626-ACFF-EB5867B7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FBEF-EB9D-430E-8195-D6C6FA0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A954-F8FE-4466-87C9-653C34B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F23B-7D36-48B5-A539-57F5306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682-B974-4594-9CF2-DA96B2C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7297-873E-4EAE-B2A3-4E0BE71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C5D-A9F4-47F5-BF2D-1808646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C83-7BBC-4DB4-A814-8601923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5CA-18E5-40C4-AC4B-100838A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996-9281-4EF4-B7B3-703C1E34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6AB-AE54-4DE4-A571-BC02A08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5AC-C6A2-4F0E-AE04-D6796AD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2F9-C0C4-4D4C-B50E-7FD81F2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69-C9EC-4BE9-846E-3E687719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3AF-A6A7-4BDE-8429-8CD98C70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408-5666-412C-A1A9-CB73FF9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EA3-B1E6-482A-9BA2-4728A09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5DA-D296-41F8-99D6-1A53C2EC03E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6293-CF86-4FDD-AA3C-926C8C8BC21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Plural Rules Part O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ian Carru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words end in ‘f’ or ‘fe’ change the ‘f’ or ‘fe’ to a 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‘v’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fore adding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 ‘es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knif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kni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if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al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of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if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i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ief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ie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900490000[1]"/>
          <p:cNvPicPr/>
          <p:nvPr/>
        </p:nvPicPr>
        <p:blipFill>
          <a:blip r:embed="rId1"/>
          <a:stretch/>
        </p:blipFill>
        <p:spPr>
          <a:xfrm>
            <a:off x="2700360" y="270828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00490000[1]"/>
          <p:cNvPicPr/>
          <p:nvPr/>
        </p:nvPicPr>
        <p:blipFill>
          <a:blip r:embed="rId2"/>
          <a:stretch/>
        </p:blipFill>
        <p:spPr>
          <a:xfrm>
            <a:off x="6516720" y="278136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Cj02900490000[1]"/>
          <p:cNvPicPr/>
          <p:nvPr/>
        </p:nvPicPr>
        <p:blipFill>
          <a:blip r:embed="rId3"/>
          <a:stretch/>
        </p:blipFill>
        <p:spPr>
          <a:xfrm>
            <a:off x="7236000" y="2781360"/>
            <a:ext cx="6444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3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l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a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ceptions → cliffs, chiefs, roofs, dwarfs and handkerch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word ends in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o’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comes after a consonant, add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e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toma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omato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g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go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g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cano →volcan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rpedo→ torpe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MCj02151450000[1]"/>
          <p:cNvPicPr/>
          <p:nvPr/>
        </p:nvPicPr>
        <p:blipFill>
          <a:blip r:embed="rId1"/>
          <a:stretch/>
        </p:blipFill>
        <p:spPr>
          <a:xfrm>
            <a:off x="6516720" y="2492280"/>
            <a:ext cx="1828800" cy="93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MCj02325820000[1]"/>
          <p:cNvPicPr/>
          <p:nvPr/>
        </p:nvPicPr>
        <p:blipFill>
          <a:blip r:embed="rId2"/>
          <a:srcRect l="-1425" t="-1896" r="-2849" b="-3793"/>
          <a:stretch/>
        </p:blipFill>
        <p:spPr>
          <a:xfrm>
            <a:off x="2843280" y="2565360"/>
            <a:ext cx="1341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3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3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3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at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vocad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squit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in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ffal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ng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ceptions → pianos, banjos, solos, radios and Eskim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s 7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word may completely change its form when a plural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hil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peo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oos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ma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ctus →cact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ngus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ng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j0283653"/>
          <p:cNvPicPr/>
          <p:nvPr/>
        </p:nvPicPr>
        <p:blipFill>
          <a:blip r:embed="rId1"/>
          <a:stretch/>
        </p:blipFill>
        <p:spPr>
          <a:xfrm>
            <a:off x="2916360" y="2781360"/>
            <a:ext cx="10191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j0283655"/>
          <p:cNvPicPr/>
          <p:nvPr/>
        </p:nvPicPr>
        <p:blipFill>
          <a:blip r:embed="rId2"/>
          <a:stretch/>
        </p:blipFill>
        <p:spPr>
          <a:xfrm>
            <a:off x="6659640" y="2852640"/>
            <a:ext cx="533160" cy="8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j0283651"/>
          <p:cNvPicPr/>
          <p:nvPr/>
        </p:nvPicPr>
        <p:blipFill>
          <a:blip r:embed="rId3"/>
          <a:stretch/>
        </p:blipFill>
        <p:spPr>
          <a:xfrm>
            <a:off x="7308720" y="2852640"/>
            <a:ext cx="638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3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3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oot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c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oot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ucleu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riterion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a word may stay the same in both it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ing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lur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f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n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un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ut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er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ep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os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o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0336585"/>
          <p:cNvPicPr/>
          <p:nvPr/>
        </p:nvPicPr>
        <p:blipFill>
          <a:blip r:embed="rId1"/>
          <a:stretch/>
        </p:blipFill>
        <p:spPr>
          <a:xfrm>
            <a:off x="2340000" y="2781360"/>
            <a:ext cx="8668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356730"/>
          <p:cNvPicPr/>
          <p:nvPr/>
        </p:nvPicPr>
        <p:blipFill>
          <a:blip r:embed="rId2"/>
          <a:stretch/>
        </p:blipFill>
        <p:spPr>
          <a:xfrm>
            <a:off x="6516720" y="2276640"/>
            <a:ext cx="10285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3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3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3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pecie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ffspring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m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ream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h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ecap and Consolid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asiest way to learn how to spell a word is to practice! Practice!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lling rules are helpful but practice makes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you learn how to spell a word you will not forget how to spell it as long as you practice! Practice! Pract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 what did you think of t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words 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add ‘s’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make the pl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ap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le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th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pple"/>
          <p:cNvPicPr/>
          <p:nvPr/>
        </p:nvPicPr>
        <p:blipFill>
          <a:blip r:embed="rId1"/>
          <a:stretch/>
        </p:blipFill>
        <p:spPr>
          <a:xfrm>
            <a:off x="2987640" y="220500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pple"/>
          <p:cNvPicPr/>
          <p:nvPr/>
        </p:nvPicPr>
        <p:blipFill>
          <a:blip r:embed="rId2"/>
          <a:stretch/>
        </p:blipFill>
        <p:spPr>
          <a:xfrm>
            <a:off x="6443640" y="220500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pple"/>
          <p:cNvPicPr/>
          <p:nvPr/>
        </p:nvPicPr>
        <p:blipFill>
          <a:blip r:embed="rId3"/>
          <a:stretch/>
        </p:blipFill>
        <p:spPr>
          <a:xfrm>
            <a:off x="6948360" y="2205000"/>
            <a:ext cx="46692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ci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oad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lower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irl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lant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oor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k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anana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o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‘e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words ending in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ch’, ‘sh’, ‘s’, ‘ss’,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x’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z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 plur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box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cros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ltz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ltz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x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x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n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    bunc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j02909360000[1]"/>
          <p:cNvPicPr/>
          <p:nvPr/>
        </p:nvPicPr>
        <p:blipFill>
          <a:blip r:embed="rId1"/>
          <a:stretch/>
        </p:blipFill>
        <p:spPr>
          <a:xfrm>
            <a:off x="2340000" y="2565360"/>
            <a:ext cx="601560" cy="51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j0284003"/>
          <p:cNvPicPr/>
          <p:nvPr/>
        </p:nvPicPr>
        <p:blipFill>
          <a:blip r:embed="rId2"/>
          <a:stretch/>
        </p:blipFill>
        <p:spPr>
          <a:xfrm>
            <a:off x="5435640" y="2276640"/>
            <a:ext cx="952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z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i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x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las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a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las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ess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s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lette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y’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consonant, chang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y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i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adding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e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ba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bab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it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rr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rr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ny → pon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mil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mil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ly → repl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d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d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1" descr="j0365298"/>
          <p:cNvPicPr/>
          <p:nvPr/>
        </p:nvPicPr>
        <p:blipFill>
          <a:blip r:embed="rId1"/>
          <a:stretch/>
        </p:blipFill>
        <p:spPr>
          <a:xfrm>
            <a:off x="6156360" y="2421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j0365298"/>
          <p:cNvPicPr/>
          <p:nvPr/>
        </p:nvPicPr>
        <p:blipFill>
          <a:blip r:embed="rId2"/>
          <a:stretch/>
        </p:blipFill>
        <p:spPr>
          <a:xfrm>
            <a:off x="7164360" y="2492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AG00320_"/>
          <p:cNvPicPr/>
          <p:nvPr/>
        </p:nvPicPr>
        <p:blipFill>
          <a:blip r:embed="rId3"/>
          <a:stretch/>
        </p:blipFill>
        <p:spPr>
          <a:xfrm>
            <a:off x="2771640" y="2565360"/>
            <a:ext cx="1105200" cy="101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"/>
          <p:cNvPicPr/>
          <p:nvPr/>
        </p:nvPicPr>
        <p:blipFill>
          <a:blip r:embed="rId4"/>
          <a:stretch/>
        </p:blipFill>
        <p:spPr>
          <a:xfrm>
            <a:off x="320364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598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ais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err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rm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ar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erry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e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je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i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ords end in ‘ay’, ‘ey’, ‘iy’, ’oy’, and ‘uy’ add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donke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donke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 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ke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a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y →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gu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u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MCj03013000000[1]"/>
          <p:cNvPicPr/>
          <p:nvPr/>
        </p:nvPicPr>
        <p:blipFill>
          <a:blip r:embed="rId1"/>
          <a:stretch/>
        </p:blipFill>
        <p:spPr>
          <a:xfrm>
            <a:off x="3203640" y="2708280"/>
            <a:ext cx="90000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3013000000[1]"/>
          <p:cNvPicPr/>
          <p:nvPr/>
        </p:nvPicPr>
        <p:blipFill>
          <a:blip r:embed="rId2"/>
          <a:stretch/>
        </p:blipFill>
        <p:spPr>
          <a:xfrm>
            <a:off x="7812000" y="2276640"/>
            <a:ext cx="900360" cy="86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Cj03013000000[1]"/>
          <p:cNvPicPr/>
          <p:nvPr/>
        </p:nvPicPr>
        <p:blipFill>
          <a:blip r:embed="rId3"/>
          <a:stretch/>
        </p:blipFill>
        <p:spPr>
          <a:xfrm>
            <a:off x="7380360" y="2852640"/>
            <a:ext cx="90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a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a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o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ke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o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la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lida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8:45:57Z</dcterms:created>
  <dc:creator>Brian Carruthers</dc:creator>
  <dc:description/>
  <cp:keywords>Plural Rules (Spelling)</cp:keywords>
  <dc:language>en-US</dc:language>
  <cp:lastModifiedBy>teacher</cp:lastModifiedBy>
  <dcterms:modified xsi:type="dcterms:W3CDTF">2010-10-08T17:48:40Z</dcterms:modified>
  <cp:revision>19</cp:revision>
  <dc:subject>Spelling</dc:subject>
  <dc:title>Plural Rules</dc:title>
</cp:coreProperties>
</file>